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80D-9D19-4117-AEC3-C5A06418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E3E-A666-4D56-B3C3-43EE9D97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A81-23F4-4987-A02A-0E93128B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424-D869-456C-81FA-64B86F45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741-9A15-457B-929B-581361BC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771B-BB7C-4D84-A8C9-DC1F094D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C1B-5894-440D-BD62-B6D220C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78D9-D280-4F6C-BD57-FEC3651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4C6-DC2C-4F6A-BA46-CF7B6B4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133-CE38-4CD2-B38B-9D3CFB86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81F-D482-42CF-92DE-B0F0842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A0B-8F8B-4828-92DA-B7770F17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D735-7F5D-4AD5-8A7F-F7BE8BE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398B-15E3-452F-9E7A-B3D7971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E24-DD84-4911-B0D6-A2B3AEC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623-DF5B-4677-902D-9BDCBC87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80B-0905-4D0B-96CB-EEDC7654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E4-F0F1-4EC9-9CE5-CFC5B9AC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024-1104-481A-B058-9C741C9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9EB-780D-4208-941D-C5A5DAC8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BBF-33B5-454F-904D-1DB549D5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56C-63F7-413C-A6DF-C96D480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4AE-6471-411F-887E-0E1F3D9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10C-F905-4082-8153-624B92C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7598-2A2A-4354-A303-064A55D6E8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6A4-574C-4037-85E8-C8323B2131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53040" y="617400"/>
            <a:ext cx="5284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omance de Zulema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hmbra a mediano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ale gallardo Zulema,[Sulaiman =Salomón]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iego de cólera y celos, si acaso los celos ciega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Bajaba el valiente mo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noche , por ver si en ell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de con su oscurid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ar lumbre a cierta sospech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su querida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ora  hermosa, discr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ma de su pensamient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fe y palabra le quieb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enía celos el mor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l alcaide de Marbe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Granada residí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su calle pa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57720" y="474840"/>
            <a:ext cx="3338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lleva en el vesti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a publicando su pen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quiere ya publicall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lo diga su libr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marlota, verde oscur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de esperanza muer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una cadena bord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fija esta letr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Mi esperanza cautivé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omo se vio suj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udando de su resc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no a morir en cadena”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bonete, carmesí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n él una pluma neg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letra: “Mi alegrí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mpite con mi tristez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 rucio rod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escrito entrambas rienda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280" y="260280"/>
            <a:ext cx="4032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a rodado por mi alm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mi fortuna la rued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l campo del adarg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vaba una calave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un mote en la frente escri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que dice: “Ya estoy cerc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 borceguí datila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sólo la vuel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dice: “Si vuelta está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fícil será volvell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Una banderilla az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una lanza jin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dice la letra: “Celo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incádsela hasta que muera”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eñido un dorado alfanj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orado jaez y espuelas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toca dorada al braz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s de su Zara la empres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95480" y="333360"/>
            <a:ext cx="3837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legado al sitio y lug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dónde su amada pren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vía, aunque en sus entrañ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tiene morada más cier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o la ventana cerrad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por no volver sin vel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l cuento de la lan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o un pequeño golpe en ell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u dama, que descuidada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ba de la novel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 un pequeño postig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 asomó por ver quién e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le conoció tan prest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tando un rato suspen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picó caball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llegándose más cerc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iciéndole: -¡Sol del mund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en los ojos reverber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73360" y="762120"/>
            <a:ext cx="3522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brid toda la venta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terraréis las tinieblas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la , que le conoció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e dijo: -Amado Zulem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nombre es propio vuest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o luna basta que se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sabéis que a la l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l sol su lumbre le prest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si acaso tengo algu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la recibo de la vuestr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le dijo:-¡Ay, Zar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ánto vale en el alma me pe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que te cuadre ese nom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 luna , que yo sol se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orque la luna en el cielo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iendo el sol en su presenci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da de sí luz ningun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eñal que de ello le pesa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73720" y="617400"/>
            <a:ext cx="3426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uando se alegra má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 cuando su sol se ausenta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y creo que tú lo imit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to, por darme pen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Respondió Zara, turba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-¡Qué bien de ver se te ech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n eso, y en venir tarde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que los celos te hacen guerra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Desecha, Zulema amig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ese dolor que te aprieta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Aunque escaramuza y paj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veas delante mis puertas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pues soy de peña a sus dueño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uanto para ti de cera-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Zulema algo asegurad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sólo le da por respuest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44280" y="906480"/>
            <a:ext cx="403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_¡Plegue a Dios que al mucho cu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no se allane la carrera!-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esto se parte el moro,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humillado la cabez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on intento de mud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aeaea"/>
                </a:solidFill>
                <a:latin typeface="Times New Roman"/>
              </a:rPr>
              <a:t>caballo, lanza y librea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4:58Z</dcterms:created>
  <dc:creator> </dc:creator>
  <dc:description/>
  <dc:language>en-US</dc:language>
  <cp:lastModifiedBy> </cp:lastModifiedBy>
  <dcterms:modified xsi:type="dcterms:W3CDTF">2007-10-03T03:33:13Z</dcterms:modified>
  <cp:revision>9</cp:revision>
  <dc:subject/>
  <dc:title>Diapositiva 1</dc:title>
</cp:coreProperties>
</file>